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602E-6667-4F0B-92E9-C2584326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E7D1-77A7-41C0-90E7-AD1FC593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BD3-C968-4B04-823B-B03A9FD9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87C-8006-4090-8AE3-57AFE4DA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C66AA-4D89-4D8E-9CB4-90E1148B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B09A5-EB8F-4B86-8E14-450EEAEA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A1F50-FBEE-4A75-9AC0-8EC05E01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C54B4-3325-4D85-8EC8-789433CE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56B34-16DC-4F0A-9A68-0FA3D573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247E4-11CB-4E21-BEB4-05C5557E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EA4A7-E72A-4499-B599-07215E14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132-CDC1-4E0E-817A-729FD649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531D2-6475-436E-BD5D-E98716EF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891F8-219F-41AD-819E-37EDD02E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3BDE6-4A25-49CD-B553-F4C268E8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0A6AF-A2E9-43A7-934D-A66AC4D7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749EA-176C-4AF1-9B72-168F742A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F1A-7BE8-42B2-BF63-A9D427EE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FC9-BA88-418C-A42C-40B559BF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B49-C9A7-4CE5-9FB2-122B43B6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931-0CD5-48E7-8070-BDD0D09E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238-A7C8-472B-AA94-082EB0D7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261-B9E8-4ECF-8B7A-EF691313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522-F00C-47DC-B13F-3D714440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2A73-C1AC-4730-A04A-BD11E6003DE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A983-8A1F-4135-A9B7-BB1E5782C14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00000" y="1557360"/>
            <a:ext cx="7417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مخــزون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2852640"/>
            <a:ext cx="5047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6720" y="1197000"/>
            <a:ext cx="36100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013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ادة ما يتم تخفيض قيمة المخزون إلى صافى قيمته البيعية على أساس كل بند على ح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د يكون مناسباً تجميع البنود المتجانسة أو المتعلقة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ببعض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فى مجموع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عتمد تقدير صافى القيمة البيعية على الدلائل المتاحة التى يمكن أن يعتد بها وقت إعداد هذا التقدير والتى يكون من المتوقع أن تحققها بنود ا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03280" y="549360"/>
            <a:ext cx="3683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ميل على المصرو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مل القيمة الدفترية للمخزون المباع كمصروف فى الفترة التى تحقق فيها الإيراد الناتج عن البي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معالجة قيمة أى رد لأى تخفيض فى قيمة المخزون الناشئ عن الزيادة فى صافى قيمته البيعية كتخفيض فى تكلفة المخزون المباع فى الفترة التى تم الرد في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د تستخدم بعض بنود المخزون فى إنشاء أصول ثابتة وعندئذ تحمل تكلفة هذه البنود على حسابات هذه الأصو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03640" y="333000"/>
            <a:ext cx="18939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لإفصــــاح</a:t>
            </a:r>
            <a:r>
              <a:rPr b="0" lang="ar-EG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91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61160" indent="0" algn="r" rtl="1">
              <a:lnSpc>
                <a:spcPct val="90000"/>
              </a:lnSpc>
              <a:spcBef>
                <a:spcPts val="901"/>
              </a:spcBef>
              <a:spcAft>
                <a:spcPts val="20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يجب أن تفصح القوائم المالية عن الآتي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سياسات المحاسبية المتبعة عند قياس قيمة المخزون بما فى ذلك الطريقة المستخدمة لحساب التكلفة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ى تغيير فى السياسات المحاسبية المتعلقة بالمخزون والأسباب الضرورية لهذا التعديل وأثر هذا التعديل فى الفترة الجارية والفترات السابق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جمالى القيمة الدفترية للمخزون مبوبة تبويباً مناسباً يتفق مع طبيعة نشاط المنشأ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للمخزون بصافى قيمته البي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يمة المخزون المرهون كضمان الالتزام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410920" y="2565360"/>
            <a:ext cx="49071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حالات عمليــ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32720" y="475920"/>
            <a:ext cx="1954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ثال (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)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شترت شركة رولا مخزون فى أول يناي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و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كانت صافى القيمة البيعي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، و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باعت الشركة المخزون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وفقاً لما سبق، أى من البيانات التالية صحيحاً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قيمة المخزون الظاهرة فى الميزان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ه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- قيمة المخزون الظاهرة فى الميزان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ه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ـ- عند بيع المخزون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فإن ما يظهر فى قائمة الدخل كمكسب هو 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 - فى السنة المالية المنته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فإن الشركة اعترفت بخسارة قدرها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فى قائمة الدخ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حــــ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د) هو الصحيح،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حيث تتطلب معايير المحاسبة المصرية أن يتم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قييم المخزون آخر المدة بالتكلفة أو صافى القيمة البيعية أيهما أقل، وينبغى على الشركة الاعتراف بخسارة قدرها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(عبارة عن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فى قائمة الدخل عن 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عند بيع المخزون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ينبغى الاعتراف بربح قدره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يعترف بها فى قائمة الدخ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 أ ) غير صحيح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لانه يجب تخفيض المخزون الى القيمة السوقية فى نهاية ال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ب) غير صحيح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لان واقع أن المخزون تم بيعه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نيه مصرى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يس له تأثير على رصيد المخزون فى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ج) غير صحيح،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حيث أن بيع المخزون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يجب مقارنته بقيمة المخزون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الذى كان القيمة الاقل من التكلفة أو صافى القيمة البيعية أى النتيجة تحقيق مكسب قدره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عبارة عن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ال (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)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9152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يما يلى بعض المعلومات المتعلقة بشركة الياسمين عن 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47640" y="2060640"/>
          <a:ext cx="6991560" cy="2070000"/>
        </p:xfrm>
        <a:graphic>
          <a:graphicData uri="http://schemas.openxmlformats.org/drawingml/2006/table">
            <a:tbl>
              <a:tblPr/>
              <a:tblGrid>
                <a:gridCol w="2376720"/>
                <a:gridCol w="461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جني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شتريات بغرض ا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رتجعات للبائ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وائد على الحسابات الدائن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صروفات شحن البضائ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755640" y="450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فإن تكلفة المخزون سوف تكون: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297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(ب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 (ج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04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( د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16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48000" y="333000"/>
            <a:ext cx="1738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حـــــ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3429000"/>
            <a:ext cx="836280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 أ ) غير صحيح، لأن مصروفات الشحن يجب أن تدخل كجزء من تكلفة المخزو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ب) غير صحيح، لأنه بالاضافة الى مشتريات البضاعة فإن البضاعة المرتجعة ومصروفات الشحن يجب إدخالهما ضمن الحساب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 د) غير صحيح، لأن تكلفة الفائدة على التمويل لا تدخل ضمن تكلفة المخزون (إلا فى ظل إشتراطات معينة كما جاء فى المعيار المحاسبى المصرى رقم (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) والمتعلق بتكلفة الاقتراض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ffff00"/>
                </a:solidFill>
                <a:uFillTx/>
                <a:latin typeface="Arial"/>
              </a:rPr>
              <a:t>وتتلخص الاشتراطات فى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أن يتطلب المخزون فترة زمنية طويلة لاعداده وبيعه مثل شركات الاستثمار العقارى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أن تكون تكلفة الاقتراض فعلية وليس افتراض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عدم استكمال الاصل بشكل جوهرى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63640" y="1268280"/>
          <a:ext cx="6918480" cy="1822680"/>
        </p:xfrm>
        <a:graphic>
          <a:graphicData uri="http://schemas.openxmlformats.org/drawingml/2006/table">
            <a:tbl>
              <a:tblPr/>
              <a:tblGrid>
                <a:gridCol w="2448000"/>
                <a:gridCol w="4470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شتريا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مصروفات الشح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) مرتجعات للبائ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4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جني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31640" y="1341360"/>
            <a:ext cx="3024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39640" y="2421000"/>
            <a:ext cx="4691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تعريفـــ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المعالجة المحاسب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الافصا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حالات عم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47640" y="29239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1599840"/>
            <a:ext cx="7931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شرح المعالجة المحاسبية ل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وفر هذا المعيار إرشادا عملياً لتحديد التكلفة وما سيتتبع ذلك من الاعتراف بها كمصروفات بما فى ذلك أى تخفيض فى القيمة للوصول إلى صافى القيمة البي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ما أنه يوفر إرشادات عن طرق حساب التكلفة التى تستخدم لتحميل التكاليف على ا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659280" y="691920"/>
            <a:ext cx="2027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59280" y="260280"/>
            <a:ext cx="2952720" cy="1059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معيار المحاسبة المصرى رقم (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1484280"/>
            <a:ext cx="2089080" cy="785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أول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تعريف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1484280"/>
            <a:ext cx="2089080" cy="105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ثانيـ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قياس قيمة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413000"/>
            <a:ext cx="2520720" cy="105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ثالثـا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افصاح عن المخزون فى القوائم المال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105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835280" y="1197000"/>
            <a:ext cx="590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119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40720" y="119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270828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تكلفة أو صافة القيمة البيعية أيهما أق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3789360"/>
            <a:ext cx="2089080" cy="36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أ  - قياس التكلف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3860640"/>
            <a:ext cx="25192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ب – قياس صافى القيمة البيع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860640"/>
            <a:ext cx="2773440" cy="1191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جـ- كيفية تطبيق طريقة التكلفة أو صافى القيمة البيعية أيهما أق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486900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إقتناء أو الحصول على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869000"/>
            <a:ext cx="2521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المخزون والمنصرف خلال الفترة للانتاج أو البي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486900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المخزون المتبقى آخر الفت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619776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1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تجارية والمواد الخا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6124680"/>
            <a:ext cx="20890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صناع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6124680"/>
            <a:ext cx="20890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3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خدم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618920" y="3645000"/>
            <a:ext cx="59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19280" y="364500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364500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6360" y="3645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3429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4720" y="42940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763280" y="4581360"/>
            <a:ext cx="576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45813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4581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276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5516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339640" y="5805360"/>
            <a:ext cx="532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580536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80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72000" y="404640"/>
            <a:ext cx="2314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ـــــــات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خزون هو أص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( أ 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حتفظ به بغرض البيع ضمن النشاط العادى للمنشأ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 (ب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ى مرحلة الانتاج ليصبح قابلاً للبي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 (ج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ى شكل مواد خام أو مهمات تستخدم فى مراحل الانتاج أو فى تقديم الخدمات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3068640"/>
            <a:ext cx="828036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سعر التقديرى للبيع من خلال  النشاط العادى ناقصاً التكلفة التقديرية للاتمام وكذلك أية تكلفة أخرى تستلزمها إتمام عملية البي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قيمة العادل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هى القيمة التى يمكن بموجبها تبادل أصل أو تسوية التزام بين أطراف كل منهم لديه الرغبة فى التبادل وعلى بينة من الحقائق ويتعاملان بإرادة ح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340000" y="2707920"/>
            <a:ext cx="4896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المعالجة المحاسب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96000" y="1268280"/>
            <a:ext cx="28908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حساب التكلفة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4358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7160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حميل بنود المخزون المحددة بذاتها والمنتجات والخدمات التى يمكن فصلها ويتم ربطها بمشروعات معينة بعناصر التكاليف الخاصة بكل منها على حد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ستخدام طريقة الوارد أولاً يصرف أولاً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 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طريقة المتوسط المرجح للتكلفة عند تحديد تكلفة المخزون فى الحالات الأخرى خلاف تلك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التى يتم فيها تحميل بنود المخزون المحددة بذاتها والمنتجات والخدمات التى يمكن فصلها ويتم ربطها بمشروعات معينة بعناصر التكاليف الخاصة بكل منها على حد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651640" y="1052280"/>
            <a:ext cx="2962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قد لا يمكن استرداد تكلفة المخزون إذا ما تعرض للتلف أو التقادم الكلى أو الجزئى أو إذا انخفض سعر بيعه 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قد لا يمكن أيضاً استرداد تكلفة المخزون إذا زادت التكلفة التقديرية لإتمامه أو إذا زادت التكلفة التقديرية المتوقع تحملها لإتمام عملية البيع عن سعر بيعه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r.mansour</cp:lastModifiedBy>
  <dcterms:modified xsi:type="dcterms:W3CDTF">2006-12-11T13:26:42Z</dcterms:modified>
  <cp:revision>47</cp:revision>
  <dc:subject/>
  <dc:title>معيار المحاسبة المصرى رقم (14) تكلفة الاقتراض</dc:title>
</cp:coreProperties>
</file>